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5734-7544-4134-8225-CFE28872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94C3-2816-42A5-B86D-48231F16BE8E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4306-4782-471B-B9AE-11E1AEC76DE1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5BFB-802E-4DAC-91D1-E56E3AD576B3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C18A-DF45-477C-83F1-4700C22194B0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3DAA-472E-435C-8067-E4D6F4F1A910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F25C-990B-4A89-B880-A92D2E92C8D0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2E2D-5F58-450D-983E-4F095707EBB9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39C6-F9D6-41C7-BE97-809BC96149F2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C5F9-CAF1-40B2-A96F-562553B13395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C77D-6AAE-4E1A-966B-1D1485A8A00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243F-38A5-4C7A-84A1-9546016293DB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7D35-1BE8-4AE7-9039-61CA8068C74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9007-A398-4A1B-A64B-9ACDF72EB0DC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CBBD-407A-4A21-A021-59F01F4C3B4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E1D8-A764-40CA-BAE9-E6ADEC6F323C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D716-EC37-428A-825D-F3B1F983A7D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EAF8-5D6C-4BAA-A83D-4C175F47B2A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82CE-75C5-487E-8FC8-97B0E9F7DBA0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80F8-6FFE-48F2-B1AA-FCA991120A8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53C2-6922-4EA5-903B-2EBD754A4DCE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DF9F-6B55-4572-A4C1-1C06F932E46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3B89-DB8D-4F0A-854C-78D01A9FC712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2AF0-1A25-4947-BB90-BA894D3600B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4E7A-311F-45EA-8F19-5C1C49C99972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5158-0A0D-4143-95B5-D66FCF96FC1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995A-F141-467F-95C4-FE3151AF3D73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5B6C-44C3-42B0-830D-EA9CE010672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0E0F-DB28-496B-BD84-48B94A90716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B74E-4FE2-4804-A2C7-058A4F26F037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097A-8737-4CCD-96E9-97F70949A749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A3FA-E202-49B1-9255-A4AAC50A1CC5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A7B5-92F3-47CE-A96C-8C91FDF99939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9F89-C801-4CBD-A18A-35D18CB58AF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CCCF-834B-4CA9-8DB0-E9689627A9E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8E98-78A0-4B30-A535-0396A86A5C20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AF6E-5631-4F56-B95C-A0CF980E9232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831E-931F-4BBA-80B5-28231514611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4C00-6D83-4403-A8E0-9F0F93BE7F6E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AD0F-CC6E-4BAC-B7C9-A1274C345BE9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6D87-2A47-4D9B-B1F8-BC251699B49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0BDE-1D63-4EC5-BBEC-CD14984E4683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9739-57CA-4D05-AE36-848C57EFF38E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E4C3-5C32-493D-983E-78DD779C34C3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5EA6-2B6F-41F2-BCAC-AF4ABFB244E0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AD94-A7A5-49AD-9AC1-DAE40277AA7B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1838-085C-4A88-9AD2-A7D9B5E0E99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D7C3-00CC-49AA-B3FF-85BE8E6C8A6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629B-7CCA-489B-83B6-7600DA51D26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6786-15CA-45A4-B914-89DFB8645827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C6BE-1CFB-4B59-84D5-1746E06BB60C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A6A7-19EC-4938-B4FB-91C9AF511D2C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0519-9A05-4D41-BE89-F2D425A498A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F104-9624-4C0B-BCA3-60A44D1956B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2C9A-5008-47AC-A620-24389EE14C62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CD38-A32B-4A8E-BC1E-A17D87929AC5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B1B2-443D-4A63-803F-75D40A14A99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761F-7B95-4B1F-9471-E89963A5B747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2460-A7A7-4435-96E9-DB55EEBC7DA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A005-31F5-4759-AE67-8411FA5C811D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0F87-4642-427C-9BEB-EC94A0344C26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2730-D408-4B0E-9B9B-BA590168CD61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8DB-C662-40CF-B9CB-986F5DC0086D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BC90-DA49-494B-95D9-A6CA0B9EBCFB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4612-1F6F-4693-8E45-0C26E7062B27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BBE2-0356-4468-BC03-DEC1A26900F7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2136-1C33-4182-9981-A9FF6F8378E4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96C5-DA37-4526-9F2D-492E43CA3B8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FB8A-1D7D-4B2A-8D31-960D3F7B4787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925D-1002-4970-B43D-7F6B8E394ACE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452C-EDC3-47A8-AED6-1FF05DB0C28F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D869-97FB-40E4-8FF4-BBA7012F0F88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E649-9D0F-4B9C-AAEE-93C15E9FD999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7F40-3443-452D-975B-A42C3F6118FA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01DA-970D-4A2F-B1CE-3779B605AB52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446D-B7E4-4C00-A773-FF4C84744B35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63D6-8B81-4575-B293-CBD102300199}" type="slidenum">
              <a:rPr b="0" lang="en-US" sz="1200" spc="-1" strike="noStrike">
                <a:solidFill>
                  <a:srgbClr val="302c2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31F-39CD-40F8-85B7-3B39F83F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027-2CA0-4351-8480-BD04913A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792-D68E-4021-AC5F-E5B82386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7A3-832E-4423-A87F-C672143F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0800-0703-445E-B342-848BC3A8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B04E-9C03-4386-86B2-1BAAFFE4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0F79-F351-42CF-9700-4AAED01F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C3AC-2DE0-4D08-B0EC-E01F6C8D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AC7D-D362-4841-93DD-54952F41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6F1A-65CB-4595-B85B-8342F19E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5174-FA93-42F9-9698-140C9851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AA9-3F37-4F47-950D-CDC79F97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6513-E787-4B7F-A588-CE4FDC22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6416-B8BF-4EB3-A2B8-74CEA894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C446-6247-4339-9C59-B18702E1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64E1-A03A-4682-A0F7-2B29DE52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24E0-2539-4E3C-AF00-8980C503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9F87-ABAC-4E86-AA40-82E8CF3C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2331-83F2-47D9-B19D-C6645084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D64D-B75A-4534-BDA2-7387A1C4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85DB-0176-483F-A66C-62A4DF96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214F5-B581-41B8-B1F4-03876BCA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44D-93BA-416A-AD80-7C1D6568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10AF-D9F3-40E7-961D-00A8371F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B3597-FCD6-4E13-BB7B-798FEF8C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9336-1B50-4768-8CBF-F974264E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BCA5-667D-4235-85C1-09A794B1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31EC9-E701-4DA9-AD3A-734C0159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8B09F-4EC7-4B6D-AA17-555AA7A1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4AC9-827A-42EC-BCA5-F55E50CE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725CB-B27B-473A-96FE-7E29862B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AD34-1477-49F8-8305-8B51FA28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B5AB4-DA5D-4A8C-8B95-D72FEAD7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17C-6DA7-4439-B038-B8F01100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AA85-41BD-4C8F-9027-DE121239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F477-D185-4A5D-873A-29D8CA1A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27032-66A0-4CC7-9769-5C6505D2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3B43-0587-4553-ADC5-8833BFD7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1B89-A0CE-45B2-9229-8B01ED01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8DEF-DA66-40FA-A9B1-4D2AFAFD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B3B07-0D43-4215-ACDC-ADE0A3BA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831A-0A3C-4BD6-ACD8-AA8ACB72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5B91-20A2-499B-9C93-1E604F5C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61BC-4A2C-4169-A81F-8BD6388C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A4C-96B9-4B41-AD13-C28CD912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43962-CC63-4EE3-B700-AABCFECE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0A721-EC5A-4A18-9208-A207CD13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3716B-E5C2-4183-BEED-733A3BCA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6B24B-ED02-40B5-AB20-ABD1E48F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C6F1A-D83D-451D-8C33-7DAABC04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2BF6F-BBB5-463A-93B3-719E9985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913C9-A8B5-4043-AD0E-4BDA9756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25F8-1798-4004-9C83-0418807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33529-B42A-4C0D-B253-286855BF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14D6E-EF15-4016-B5D8-FF4B52D2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93240"/>
            <a:ext cx="8146800" cy="67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862-D1F0-49D2-93F7-E75C7DEE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5296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07680" y="176220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9860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5296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07680" y="4041720"/>
            <a:ext cx="262296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142DD-94B9-45BD-B837-75F4FC1E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470-0A3C-4C67-8E37-A49B3D52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404172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C13-4759-4103-8CCB-302AB58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1762200"/>
            <a:ext cx="397548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041720"/>
            <a:ext cx="8146800" cy="20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714-B33B-4914-8193-35085B94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C1CA-2CA1-4415-B2B4-48309911F030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52B1-1064-4D79-B72E-276432C76241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2F90-0662-4B11-9CDD-974247C7CFD5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6"/>
          <p:cNvSpPr/>
          <p:nvPr/>
        </p:nvSpPr>
        <p:spPr>
          <a:xfrm>
            <a:off x="503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4" name="Straight Connector 7"/>
          <p:cNvSpPr/>
          <p:nvPr/>
        </p:nvSpPr>
        <p:spPr>
          <a:xfrm>
            <a:off x="4805280" y="2352600"/>
            <a:ext cx="3840120" cy="1800"/>
          </a:xfrm>
          <a:prstGeom prst="line">
            <a:avLst/>
          </a:prstGeom>
          <a:ln w="6480">
            <a:solidFill>
              <a:srgbClr val="c6b1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302c2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653E-96E2-471D-9C48-933468E5EA25}" type="slidenum">
              <a:rPr b="0" lang="en-US" sz="1100" spc="-1" strike="noStrike">
                <a:solidFill>
                  <a:srgbClr val="6d645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to edit the outline text form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1" marL="9144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2" marL="13716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hird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3" marL="1828800" indent="-457200">
              <a:spcBef>
                <a:spcPts val="2001"/>
              </a:spcBef>
              <a:buClr>
                <a:srgbClr val="a49a85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our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4" marL="22860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if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5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ix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lvl="6" marL="2286000" indent="-457200">
              <a:spcBef>
                <a:spcPts val="2001"/>
              </a:spcBef>
              <a:buClr>
                <a:srgbClr val="ffffff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eventh Outline Level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89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2c24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8184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d6452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32F5-F249-4865-858C-22C901A22F87}" type="slidenum">
              <a:rPr b="0" lang="en-US" sz="1100" spc="-1" strike="noStrike">
                <a:solidFill>
                  <a:srgbClr val="6d6452"/>
                </a:solidFill>
                <a:latin typeface="Book Antiqu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1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7.xml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0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3.xml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6.xml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9.xml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5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2"/>
          <a:stretch/>
        </p:blipFill>
        <p:spPr>
          <a:xfrm>
            <a:off x="493560" y="1365120"/>
            <a:ext cx="8156880" cy="165276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3" descr=""/>
          <p:cNvPicPr/>
          <p:nvPr/>
        </p:nvPicPr>
        <p:blipFill>
          <a:blip r:embed="rId3"/>
          <a:stretch/>
        </p:blipFill>
        <p:spPr>
          <a:xfrm>
            <a:off x="493560" y="2706840"/>
            <a:ext cx="8156880" cy="68256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9"/>
          <p:cNvGrpSpPr/>
          <p:nvPr/>
        </p:nvGrpSpPr>
        <p:grpSpPr>
          <a:xfrm>
            <a:off x="5343120" y="3628440"/>
            <a:ext cx="3505680" cy="2819880"/>
            <a:chOff x="5343120" y="3628440"/>
            <a:chExt cx="3505680" cy="2819880"/>
          </a:xfrm>
        </p:grpSpPr>
        <p:pic>
          <p:nvPicPr>
            <p:cNvPr id="217" name="Rectangle 8" descr=""/>
            <p:cNvPicPr/>
            <p:nvPr/>
          </p:nvPicPr>
          <p:blipFill>
            <a:blip r:embed="rId4"/>
            <a:stretch/>
          </p:blipFill>
          <p:spPr>
            <a:xfrm rot="21599400">
              <a:off x="5343120" y="3628800"/>
              <a:ext cx="350532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" descr="No_Smoking_-_01_L.jpg"/>
            <p:cNvPicPr/>
            <p:nvPr/>
          </p:nvPicPr>
          <p:blipFill>
            <a:blip r:embed="rId5"/>
            <a:stretch/>
          </p:blipFill>
          <p:spPr>
            <a:xfrm rot="373200">
              <a:off x="5753880" y="4064760"/>
              <a:ext cx="2697120" cy="194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7"/>
          <p:cNvGrpSpPr/>
          <p:nvPr/>
        </p:nvGrpSpPr>
        <p:grpSpPr>
          <a:xfrm>
            <a:off x="506160" y="3394080"/>
            <a:ext cx="2210040" cy="2972160"/>
            <a:chOff x="506160" y="3394080"/>
            <a:chExt cx="2210040" cy="2972160"/>
          </a:xfrm>
        </p:grpSpPr>
        <p:pic>
          <p:nvPicPr>
            <p:cNvPr id="220" name="Rectangle 6" descr=""/>
            <p:cNvPicPr/>
            <p:nvPr/>
          </p:nvPicPr>
          <p:blipFill>
            <a:blip r:embed="rId6"/>
            <a:stretch/>
          </p:blipFill>
          <p:spPr>
            <a:xfrm rot="21599400">
              <a:off x="506160" y="3394080"/>
              <a:ext cx="220968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5" descr="stop-smoking-357-784769.jpg"/>
            <p:cNvPicPr/>
            <p:nvPr/>
          </p:nvPicPr>
          <p:blipFill>
            <a:blip r:embed="rId7"/>
            <a:stretch/>
          </p:blipFill>
          <p:spPr>
            <a:xfrm rot="20898000">
              <a:off x="947880" y="3789360"/>
              <a:ext cx="1334520" cy="216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A stimulant is a drug that _________ the action of the central nervous system, heart, and other organs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3657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Increase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Decrease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ich of the following is </a:t>
            </a:r>
            <a:r>
              <a:rPr b="1" lang="en-US" sz="5000" spc="-1" strike="noStrike" u="sng">
                <a:solidFill>
                  <a:srgbClr val="302c24"/>
                </a:solidFill>
                <a:uFillTx/>
                <a:latin typeface="Book Antiqua"/>
              </a:rPr>
              <a:t>NOT</a:t>
            </a: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 an effect of Nicotine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Raises blood pressur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Increases heart rat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Heart disea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Strok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6" action="ppaction://hlinksldjump"/>
              </a:rPr>
              <a:t>Increased eye sigh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a carcinogen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A non-cancer causing substanc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A vitamin that smokers can take to cancel out the negative affects of smoking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A cancer causing substanc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</a:t>
            </a: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here </a:t>
            </a: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the number one cause of preventable disease and death in the U.S.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Alcohol u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Tobacco u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Sexually Transmitted Infection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the thick, sticky, dark fluid found in tobacco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arbon monoxid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Molasse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Tar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Chew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the colorless, odorless, and poisonous gas that is present in cigarettes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Oxyge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Carbon Dioxid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Hydroge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Carbon Monoxid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ar and Carbon Monoxide do which of the following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Destroys cilia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Damages alveoli or air sac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Destroys lung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All of the abov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does carbon monoxide do to the body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Deprives tissues and cells of oxyge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Increases risk of high blood pressur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All of the abov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ich one contains more nicotine and produces more tar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igarette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Cigar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One cigar = how many cigarettes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3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5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1 pack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3 pack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How do you </a:t>
            </a: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NOT</a:t>
            </a: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 use smokeless tobacco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Sniff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E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Held in mouth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Chewed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8 – 10 chews of smokeless tobacco = how many cigarettes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6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10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1 pack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5" action="ppaction://hlinksldjump"/>
              </a:rPr>
              <a:t>2 pack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do we call a thickened, white, leathery looking spots on the inside of the mouth that can develop into cancer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Leukemia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Leukoplakia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Lymphoma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obacco use can change your brain chemistry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3428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kind of </a:t>
            </a:r>
            <a:r>
              <a:rPr b="1" lang="en-US" sz="5000" spc="-1" strike="noStrike" u="sng">
                <a:solidFill>
                  <a:srgbClr val="302c24"/>
                </a:solidFill>
                <a:uFillTx/>
                <a:latin typeface="Book Antiqua"/>
              </a:rPr>
              <a:t>substance</a:t>
            </a: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 causes physiological or psychological dependencies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Addictive drug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Dependent drug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Illegal drug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obacco use </a:t>
            </a:r>
            <a:r>
              <a:rPr b="0" lang="en-US" sz="5000" spc="-1" strike="noStrike" u="sng">
                <a:solidFill>
                  <a:srgbClr val="302c24"/>
                </a:solidFill>
                <a:uFillTx/>
                <a:latin typeface="Book Antiqua"/>
              </a:rPr>
              <a:t>decreases</a:t>
            </a: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 your respiration and heart rate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3504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obacco causes dulled taste buds and reduced appetite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3352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obacco use can give a person bad breath and smelly clothes, hair, and skin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962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ich of the following is </a:t>
            </a: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NOT</a:t>
            </a: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 a long term affect of smoking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Weight los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hronic bronchiti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Emphysema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Lung cancer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oronary heart disease and strok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a good strategy for preventing tobacco use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3276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hoosing friends wisely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Being around people who smok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rying just one cigarett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How might a person act if they are suffering from nicotine withdrawal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Lots of energy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Very irritabl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od concentration skill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od night sleep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Smoking while pregnant is perfectly fine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3657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True or False:</a:t>
            </a:r>
            <a:br>
              <a:rPr sz="5000"/>
            </a:b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Smoking while pregnant can cause SIDS (Sudden Infant Death Syndrome).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3657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Tru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Fals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negative effects can smoking have on children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Sore throat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Ear infections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Lung cancer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All of the abov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TRY AGAIN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Sorry, that is not the correct answer.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lick here to Try Agai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02c24"/>
                </a:solidFill>
                <a:latin typeface="Book Antiqua"/>
              </a:rPr>
              <a:t>Congratulations!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8600" y="2285640"/>
            <a:ext cx="8146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You have completed the review game!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Continue to review your notes prior to your Health Test!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452"/>
                </a:solidFill>
                <a:latin typeface="Book Antiqua"/>
              </a:rPr>
              <a:t>Good Luck on your Test!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  <p:pic>
        <p:nvPicPr>
          <p:cNvPr id="374" name="Picture 4" descr="no-smoking.jpg"/>
          <p:cNvPicPr/>
          <p:nvPr/>
        </p:nvPicPr>
        <p:blipFill>
          <a:blip r:embed="rId2"/>
          <a:stretch/>
        </p:blipFill>
        <p:spPr>
          <a:xfrm>
            <a:off x="6019920" y="3809880"/>
            <a:ext cx="25066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What is the addictive drug found in tobacco leaves?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Tar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3" action="ppaction://hlinksldjump"/>
              </a:rPr>
              <a:t>Carcinoge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4" action="ppaction://hlinksldjump"/>
              </a:rPr>
              <a:t>Nicotine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buClr>
                <a:srgbClr val="6d6452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8600" y="93240"/>
            <a:ext cx="8146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02c24"/>
                </a:solidFill>
                <a:latin typeface="Book Antiqua"/>
              </a:rPr>
              <a:t>CONGRATULATIONS</a:t>
            </a:r>
            <a:endParaRPr b="0" lang="en-US" sz="5000" spc="-1" strike="noStrike">
              <a:solidFill>
                <a:srgbClr val="302c24"/>
              </a:solidFill>
              <a:latin typeface="Book Antiqu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8600" y="1762200"/>
            <a:ext cx="8146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d6452"/>
                </a:solidFill>
                <a:latin typeface="Book Antiqua"/>
              </a:rPr>
              <a:t>You are correct!</a:t>
            </a: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73c08"/>
                </a:solidFill>
                <a:uFillTx/>
                <a:latin typeface="Book Antiqua"/>
                <a:hlinkClick r:id="rId2" action="ppaction://hlinksldjump"/>
              </a:rPr>
              <a:t>Go on to the next question</a:t>
            </a:r>
            <a:endParaRPr b="0" lang="en-US" sz="2200" spc="-1" strike="noStrike">
              <a:solidFill>
                <a:srgbClr val="6d645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21:46:49Z</dcterms:created>
  <dc:creator>Julia &amp; Pete</dc:creator>
  <dc:description/>
  <dc:language>en-US</dc:language>
  <cp:lastModifiedBy>Kutztown University</cp:lastModifiedBy>
  <dcterms:modified xsi:type="dcterms:W3CDTF">2009-04-13T22:40:34Z</dcterms:modified>
  <cp:revision>9</cp:revision>
  <dc:subject/>
  <dc:title>Tobacco Use</dc:title>
</cp:coreProperties>
</file>